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chimes.wav" ContentType="audio/x-wav"/>
  <Override PartName="/ppt/media/image11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D5BC-A6B0-497F-BBC0-12B1DBCB50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12D4-D6A0-4A97-9318-B1A2F429E5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1937-501F-4547-A8D1-DD2EE8322E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F8C9-FEDD-435B-9A92-3FD49C361A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668-1BF2-4488-B90B-36017870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AE0-4F07-420B-88AB-DBE8625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7BA-171B-48DB-9143-73DCE43C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712-24D0-41D0-955D-2AAEB5EB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04A8-3CC8-4A2B-AC79-9BEF5C27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5038-ED67-467A-B421-016AC0C9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BBC0-3656-4BFA-98FA-062A342E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5A40-6772-4AF6-83C8-B6BA3522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30DE-3018-4FF4-B913-D78EBFB7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DE78-90F2-4C79-B134-2C89AA5D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05DC-12AC-4557-A4E9-8C0CD997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EAB-050C-4CF0-A141-B51B60DA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73C1-2F03-4A1A-A3F5-A75E6E79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5107-2D58-419B-9796-F70B3D0A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0D36-464E-40E6-9BE4-097A5178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55D7-F4B5-448C-B6D9-AB08DC65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4633-83D5-4F93-A1F8-BC49D2F6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A46EA-09D2-4F2D-9CDA-18AB0B32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31F5-7AEB-4FA2-8D2F-12E54EC7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9F664-A71A-4253-BC31-4A58B93E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2A19-57AB-4B17-8BD6-AEE7C4C7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C106A-A007-4DC4-901D-201CA601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95F-2434-453E-A704-F439DE08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6EDE-7C34-47CC-BBFE-6F84746E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94334-2715-44D4-B9B9-3096653D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9DF6-794E-4998-BCA2-120FC5C0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00D2-C5D4-427E-BC2A-A31E447F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6E415-2AFC-400F-AB52-6A24ACE4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B036-C5A4-4599-9DCE-0A47A05C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2FEA9-31DC-4770-966A-38957FFC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AFBF9-8F0F-494D-BB67-A3145C5D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2FFE0-9300-47E4-A168-34245CF0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3653C-F8B7-415E-ADBB-5D778B0B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B1F-C32D-41F7-A4F1-7BA73A1A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7393-A782-4BF5-ADCC-623B79FB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D4EA5-6AB8-4B12-80C7-5FCE03EF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1876-1B3F-4F68-AF5A-7824BF72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EA5C6-A147-402B-A9BB-6F83FC0B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996D5-B48D-48D3-A7F2-86A8D6A2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A9A90-4214-4ED8-AC3C-80E27C69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7A4CD-B409-4E61-8AED-A0CC6036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AFEB9-A82C-4A0F-BF06-39D7EFA7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FBDA8-E33F-4EB3-8535-1722B2FF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E4177-D583-4C01-9C4C-F3B6AAB9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0F5-DDEC-40B3-88A8-D4513EE1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AF57C-70E1-498E-BBC1-4EADAFCF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D0276-3468-4776-A3BD-E0B770C7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84D36-AB6E-456E-B2C6-9B43E11E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F1027-2AE6-4537-B9E6-048CF980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9AC80-90B6-4A19-ADB7-67794881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E4515-574D-48A9-BE59-0BB43CAA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0804B-1B7B-4E9E-9098-5C8275D5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DBE44-F7D5-4602-AFDE-656812A5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7504F-F314-4357-BC90-FEE96E03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F759F-D63A-426D-9D52-78FE750C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5E8-5CAF-4A3E-A0A9-8DAD739B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252F0-FFA3-4020-8222-BCBDCC20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979-1D08-4A8B-A485-43D2B57C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2AD-A613-4BC5-BF85-EEAEEA9E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F9C-0518-4E98-BC38-095B1579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51E3-C0C9-4072-B732-0D353AC410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4B62-EF65-4FC8-BEF1-6002DDA704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E159-9DC5-495F-8ADB-785EB6DA13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A677-2557-460C-9BEC-6A9788D537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5153-9899-45B1-A936-2B90EE7418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>
            <a:lum bright="66000"/>
          </a:blip>
          <a:srcRect l="18526" t="53239" r="25781" b="21075"/>
          <a:stretch/>
        </p:blipFill>
        <p:spPr>
          <a:xfrm>
            <a:off x="378000" y="500040"/>
            <a:ext cx="7203960" cy="4259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>
            <a:lum bright="18000"/>
          </a:blip>
          <a:srcRect l="1861" t="5542" r="41264" b="53984"/>
          <a:stretch/>
        </p:blipFill>
        <p:spPr>
          <a:xfrm>
            <a:off x="3348000" y="3137040"/>
            <a:ext cx="5506920" cy="30891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уклеиновые кисл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684360" y="2421000"/>
            <a:ext cx="78483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D6F0-90DA-4F34-AAB0-7CA300BCB37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Выполнение задачи на комплементар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14200" y="78588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Комплементарность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это взаимное дополнение азотисты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аний в молекуле ДН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0300207"/>
          <p:cNvPicPr/>
          <p:nvPr/>
        </p:nvPicPr>
        <p:blipFill>
          <a:blip r:embed="rId1"/>
          <a:stretch/>
        </p:blipFill>
        <p:spPr>
          <a:xfrm>
            <a:off x="0" y="2000160"/>
            <a:ext cx="2286000" cy="21495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6"/>
          <p:cNvSpPr/>
          <p:nvPr/>
        </p:nvSpPr>
        <p:spPr>
          <a:xfrm>
            <a:off x="2627280" y="1785960"/>
            <a:ext cx="6016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Задача 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рагмент цепи ДН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меет   последовательность нуклеотидов: 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Г Т Ц Т А Ц Г А 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ройте по принципу комплементарности 2-ю  цепочку ДН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-я цепь ДНК: Г-Т-Ц-Т-А-Ц-Г-А-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5128200" y="39337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-А-Г-А-Т-Г-Ц-Т-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2627280" y="3933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-я цепь ДНК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1724040" y="530064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Значение комплементарност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0" y="57150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лагодаря ей происходят реакции матричного синтез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 самоудвоение ДНК, который  лежит  в основ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оста и  размножения организм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17" descr=""/>
          <p:cNvPicPr/>
          <p:nvPr/>
        </p:nvPicPr>
        <p:blipFill>
          <a:blip r:embed="rId2"/>
          <a:stretch/>
        </p:blipFill>
        <p:spPr>
          <a:xfrm>
            <a:off x="1708200" y="4786200"/>
            <a:ext cx="61228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385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38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38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38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6A29-85D3-416B-A2C5-7CDC725265E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Verdana"/>
              </a:rPr>
              <a:t>Репликация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ru-RU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цесс самоудвоения молекулы ДНК на основе принципа комплементар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532720" cy="48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Text Box 9"/>
          <p:cNvSpPr/>
          <p:nvPr/>
        </p:nvSpPr>
        <p:spPr>
          <a:xfrm>
            <a:off x="0" y="566100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Значение репликации: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благодаря самоудвоению  ДНК,  происходят процессы деления клеток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иды Р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клетке имеется несколько видов РНК. Все они участвуют в синтезе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Транспорт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т-РНК) - это самые маленькие по размерам РНК. Они связывают АК и транспортируют их к месту синтеза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Информацион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и-РНК) - они в 10 раз больше тРНК. Их функция состоит в переносе информации о структуре белка от ДНК к месту синтеза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Рибосом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р-РНК) - имеют наибольшие размеры молекулы, входят в состав рибос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Генетический код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следственная информация записана в молекулах НК в виде последовательности нуклеотидов. Определенные участки молекулы ДНК и РНК (у вирусов и фагов) содержат информацию о первичной структуре одного белка и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ам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ген = 1 молекула бел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этому наследственную информацию, которую содержат ДНК называют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етической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3924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а аминокислота закодирована тремя нуклеотидами (один кодон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5312880" y="19890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Ц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6247080" y="199404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Г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7261200" y="1989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AutoShape 10"/>
          <p:cNvSpPr/>
          <p:nvPr/>
        </p:nvSpPr>
        <p:spPr>
          <a:xfrm rot="16200000">
            <a:off x="5545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11"/>
          <p:cNvSpPr/>
          <p:nvPr/>
        </p:nvSpPr>
        <p:spPr>
          <a:xfrm rot="16200000">
            <a:off x="6553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2"/>
          <p:cNvSpPr/>
          <p:nvPr/>
        </p:nvSpPr>
        <p:spPr>
          <a:xfrm rot="16200000">
            <a:off x="748872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5708160" y="278604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иплет, код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14"/>
          <p:cNvSpPr/>
          <p:nvPr/>
        </p:nvSpPr>
        <p:spPr>
          <a:xfrm rot="16200000">
            <a:off x="6553800" y="2174040"/>
            <a:ext cx="287280" cy="26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6454800" y="364968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53788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474240" y="4154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748260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AutoShape 21"/>
          <p:cNvSpPr/>
          <p:nvPr/>
        </p:nvSpPr>
        <p:spPr>
          <a:xfrm rot="16200000">
            <a:off x="6696720" y="3613680"/>
            <a:ext cx="287640" cy="2663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22"/>
          <p:cNvSpPr/>
          <p:nvPr/>
        </p:nvSpPr>
        <p:spPr>
          <a:xfrm>
            <a:off x="6370920" y="51055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л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280" y="4941360"/>
            <a:ext cx="3924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: АК триптофан закодирована в РНК УГГ, в ДНК - АЦ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3" dur="2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2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400"/>
                            </p:stCondLst>
                            <p:childTnLst>
                              <p:par>
                                <p:cTn id="4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800"/>
                            </p:stCondLst>
                            <p:childTnLst>
                              <p:par>
                                <p:cTn id="4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меется 64 кодон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84360" y="3573000"/>
            <a:ext cx="392436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1 кодон кодирует 20 (21) аминокислот, три кодона являются знаками препинания: кодоны-терминаторы УАА, УАГ, УГА (в РНК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1065240" y="2276640"/>
            <a:ext cx="44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1763640" y="2421000"/>
            <a:ext cx="287280" cy="1655640"/>
          </a:xfrm>
          <a:custGeom>
            <a:avLst/>
            <a:gdLst>
              <a:gd name="textAreaLeft" fmla="*/ 0 w 287280"/>
              <a:gd name="textAreaRight" fmla="*/ 10368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2293920" y="30733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войства генетического код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ниверсаль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ретность (кодовые триплеты считываются с молекулы РНК целиком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пецифичность (кодон кодирует только А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ыточность кода (несколько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533160" y="8377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64 триплетов только 61 являются кодирующими, т.е несущими информацию об аминокислот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триплета являются бессмысленными –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АТТ, АЦТ, А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называются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нонсенс – трипле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терминирующим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кодон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Они играют роль своеобразных точек «в конце предложения», т.е. в конце синтеза белковой молеку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61 информационных триплета есть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риплеты-синони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есущие информацию об одной и той же аминокислоте. Это свойство генетического кода называется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вырожденн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е свойства генетического код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последовательность расположения трипле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цепи ДНК, их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неперекрываемость, специфичность, универсаль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всего жив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ритроциты - двояковогнутые диски, содержат гемоглоби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орма: 6-е место – гл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атология – ва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емоглобин - бело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молекула = 4 полимер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полимер = 574 А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изменении молекулы белка изменяется свойство гемоглобина, возникает наследственное заболевание: серповидно-клеточная анем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ханизм реализации генетической информации в процессе биосинтеза бел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Транскрип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то процесс считывания информации с ДНК на и-РН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участке одной из цепей ДНК (кодогенной), называемого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структурным гено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рмент, участвующий в процессе транскрипци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РНК-полимер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крыт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крыты во второй половине 19 века швейцарским биохимиком Ф. Мишер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первые обнаружены в ядре («нуклеус» - ядро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rcRect l="62420" t="27455" r="21075" b="43525"/>
          <a:stretch/>
        </p:blipFill>
        <p:spPr>
          <a:xfrm>
            <a:off x="5292720" y="981000"/>
            <a:ext cx="3344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уклеиновые кислоты: ДНК и Р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К – полимер. Мономер – нуклеотид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ы ДНК обладают видовой специфичность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а ДНК – двойная спираль, поддерживается водородными связя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Цепи ДНК строятся по принципу комплиментарност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держание ДНК в клетке постоянн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я ДНК – хранение и пердача наследственной информ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3077-FAE9-4D86-A573-66B18BDFBA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АТФ.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очему АТФ называют «аккумулятором» клет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ТФ-аденозинтрифосфорная кисло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Organization Chart 7"/>
          <p:cNvGrpSpPr/>
          <p:nvPr/>
        </p:nvGrpSpPr>
        <p:grpSpPr>
          <a:xfrm>
            <a:off x="900000" y="2133720"/>
            <a:ext cx="7704000" cy="4462560"/>
            <a:chOff x="900000" y="2133720"/>
            <a:chExt cx="7704000" cy="4462560"/>
          </a:xfrm>
        </p:grpSpPr>
        <p:cxnSp>
          <p:nvCxnSpPr>
            <p:cNvPr id="331" name="_s1028"/>
            <p:cNvCxnSpPr>
              <a:stCxn id="332" idx="0"/>
              <a:endCxn id="333" idx="2"/>
            </p:cNvCxnSpPr>
            <p:nvPr/>
          </p:nvCxnSpPr>
          <p:spPr>
            <a:xfrm flipV="1" rot="16200000">
              <a:off x="5653800" y="3016080"/>
              <a:ext cx="893160" cy="2696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_s1029"/>
            <p:cNvCxnSpPr>
              <a:stCxn id="335" idx="0"/>
              <a:endCxn id="333" idx="2"/>
            </p:cNvCxnSpPr>
            <p:nvPr/>
          </p:nvCxnSpPr>
          <p:spPr>
            <a:xfrm flipV="1">
              <a:off x="4752000" y="3917880"/>
              <a:ext cx="288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6" name="_s1030"/>
            <p:cNvCxnSpPr>
              <a:stCxn id="337" idx="0"/>
              <a:endCxn id="333" idx="2"/>
            </p:cNvCxnSpPr>
            <p:nvPr/>
          </p:nvCxnSpPr>
          <p:spPr>
            <a:xfrm flipH="1" flipV="1" rot="5400000">
              <a:off x="2957400" y="3016080"/>
              <a:ext cx="893160" cy="2696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3" name="_s1031"/>
            <p:cNvSpPr/>
            <p:nvPr/>
          </p:nvSpPr>
          <p:spPr>
            <a:xfrm>
              <a:off x="3596400" y="213372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АТФ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(нуклеотид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_s1032"/>
            <p:cNvSpPr/>
            <p:nvPr/>
          </p:nvSpPr>
          <p:spPr>
            <a:xfrm>
              <a:off x="900000" y="481140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Азотисто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основа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3596400" y="481140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углевод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_s1034"/>
            <p:cNvSpPr/>
            <p:nvPr/>
          </p:nvSpPr>
          <p:spPr>
            <a:xfrm>
              <a:off x="6292800" y="481140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3 молекул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PO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l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FF37-13F0-4ABE-9BBE-8866F9AA43A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Verdana"/>
              </a:rPr>
              <a:t>Структура молекулы АТФ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1116000" y="2492280"/>
            <a:ext cx="1368360" cy="60984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аден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>
            <a:off x="2484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98764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298764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13"/>
          <p:cNvSpPr/>
          <p:nvPr/>
        </p:nvSpPr>
        <p:spPr>
          <a:xfrm flipV="1">
            <a:off x="2987640" y="270792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634920" y="2707920"/>
            <a:ext cx="289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3348000" y="2565360"/>
            <a:ext cx="144360" cy="1429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Line 16"/>
          <p:cNvSpPr/>
          <p:nvPr/>
        </p:nvSpPr>
        <p:spPr>
          <a:xfrm>
            <a:off x="3924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Oval 17"/>
          <p:cNvSpPr/>
          <p:nvPr/>
        </p:nvSpPr>
        <p:spPr>
          <a:xfrm>
            <a:off x="4427640" y="2421000"/>
            <a:ext cx="649080" cy="43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Oval 18"/>
          <p:cNvSpPr/>
          <p:nvPr/>
        </p:nvSpPr>
        <p:spPr>
          <a:xfrm>
            <a:off x="5508720" y="2421000"/>
            <a:ext cx="647640" cy="43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Oval 19"/>
          <p:cNvSpPr/>
          <p:nvPr/>
        </p:nvSpPr>
        <p:spPr>
          <a:xfrm>
            <a:off x="6659640" y="2421000"/>
            <a:ext cx="649080" cy="43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52" name="AutoShape 20"/>
          <p:cNvCxnSpPr/>
          <p:nvPr/>
        </p:nvCxnSpPr>
        <p:spPr>
          <a:xfrm flipH="1" rot="16200000">
            <a:off x="4497480" y="1773000"/>
            <a:ext cx="2160" cy="2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3" name="AutoShape 21"/>
          <p:cNvCxnSpPr/>
          <p:nvPr/>
        </p:nvCxnSpPr>
        <p:spPr>
          <a:xfrm flipH="1" rot="16200000">
            <a:off x="4497480" y="177300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AutoShape 22"/>
          <p:cNvCxnSpPr/>
          <p:nvPr/>
        </p:nvCxnSpPr>
        <p:spPr>
          <a:xfrm flipH="1" rot="16200000">
            <a:off x="4497480" y="177300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Line 23"/>
          <p:cNvSpPr/>
          <p:nvPr/>
        </p:nvSpPr>
        <p:spPr>
          <a:xfrm>
            <a:off x="4716360" y="2852640"/>
            <a:ext cx="1150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24"/>
          <p:cNvSpPr/>
          <p:nvPr/>
        </p:nvSpPr>
        <p:spPr>
          <a:xfrm flipH="1">
            <a:off x="5866920" y="2852640"/>
            <a:ext cx="1081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2987640" y="321300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44"/>
          <p:cNvSpPr/>
          <p:nvPr/>
        </p:nvSpPr>
        <p:spPr>
          <a:xfrm>
            <a:off x="5676840" y="402444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Макроэргические связ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61"/>
          <p:cNvSpPr/>
          <p:nvPr/>
        </p:nvSpPr>
        <p:spPr>
          <a:xfrm>
            <a:off x="1403280" y="4859280"/>
            <a:ext cx="63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АТФ+Н </a:t>
            </a:r>
            <a:r>
              <a:rPr b="1" lang="ru-RU" sz="10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        АДФ+Ф+Е(40кДж/моль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2.   АДФ+Н 2О       АМФ+Ф+Е(40кДж/мол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Line 62"/>
          <p:cNvSpPr/>
          <p:nvPr/>
        </p:nvSpPr>
        <p:spPr>
          <a:xfrm>
            <a:off x="2916360" y="50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64"/>
          <p:cNvSpPr/>
          <p:nvPr/>
        </p:nvSpPr>
        <p:spPr>
          <a:xfrm>
            <a:off x="755640" y="494172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65"/>
          <p:cNvSpPr/>
          <p:nvPr/>
        </p:nvSpPr>
        <p:spPr>
          <a:xfrm>
            <a:off x="1455840" y="524844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66"/>
          <p:cNvSpPr/>
          <p:nvPr/>
        </p:nvSpPr>
        <p:spPr>
          <a:xfrm>
            <a:off x="1547640" y="5229360"/>
            <a:ext cx="671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Line 80"/>
          <p:cNvSpPr/>
          <p:nvPr/>
        </p:nvSpPr>
        <p:spPr>
          <a:xfrm>
            <a:off x="298764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81"/>
          <p:cNvSpPr/>
          <p:nvPr/>
        </p:nvSpPr>
        <p:spPr>
          <a:xfrm>
            <a:off x="971640" y="575316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нергетическая эффективность 2-ух макроэргических связей -80кДж/мо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C1EE-CCD3-4AD8-8784-D5A856CF9D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Запомн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j0299125"/>
          <p:cNvPicPr/>
          <p:nvPr/>
        </p:nvPicPr>
        <p:blipFill>
          <a:blip r:embed="rId1"/>
          <a:stretch/>
        </p:blipFill>
        <p:spPr>
          <a:xfrm>
            <a:off x="900000" y="1620720"/>
            <a:ext cx="1368360" cy="13035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6"/>
          <p:cNvSpPr/>
          <p:nvPr/>
        </p:nvSpPr>
        <p:spPr>
          <a:xfrm>
            <a:off x="2843280" y="1916280"/>
            <a:ext cx="5349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АТФ Образуется в митохондриях клеток животных и хлоропластах расте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Энергия АТФ используется на движение, биосинтез, деление и 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Средняя продолжительность жизни1 молекулы АТФ менее !мин, т.к. она расщепляется и восстанавливается 2400раз в сут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u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оен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уклеотид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- химическое соединение остатков трех веществ: азотистого основания, углевода, фосфорной кисло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126C-4B14-456A-97EC-75DD84AB7A9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AutoShape 2"/>
          <p:cNvSpPr/>
          <p:nvPr/>
        </p:nvSpPr>
        <p:spPr>
          <a:xfrm>
            <a:off x="228600" y="152280"/>
            <a:ext cx="4114800" cy="381240"/>
          </a:xfrm>
          <a:custGeom>
            <a:avLst/>
            <a:gdLst>
              <a:gd name="textAreaLeft" fmla="*/ 44640 w 4114800"/>
              <a:gd name="textAreaRight" fmla="*/ 4070160 w 4114800"/>
              <a:gd name="textAreaTop" fmla="*/ 44640 h 381240"/>
              <a:gd name="textAreaBottom" fmla="*/ 336600 h 381240"/>
            </a:gdLst>
            <a:ahLst/>
            <a:rect l="textAreaLeft" t="textAreaTop" r="textAreaRight" b="textAreaBottom"/>
            <a:pathLst>
              <a:path w="2329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9334" y="21600"/>
                </a:lnTo>
                <a:arcTo wR="3600" hR="3600" stAng="10800000" swAng="5400000"/>
                <a:lnTo>
                  <a:pt x="232934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УКЛЕИНОВЫЕ КИСЛ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Oval 3"/>
          <p:cNvSpPr/>
          <p:nvPr/>
        </p:nvSpPr>
        <p:spPr>
          <a:xfrm>
            <a:off x="4419720" y="152280"/>
            <a:ext cx="47242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НОМЕРЫ - НУКЛЕОТИД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228600" y="838080"/>
            <a:ext cx="4191120" cy="1371600"/>
          </a:xfrm>
          <a:prstGeom prst="ellipse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НК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езоксирибонуклеинов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5791320" y="838080"/>
            <a:ext cx="304776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50000">
                <a:srgbClr val="ffff99"/>
              </a:gs>
              <a:gs pos="100000">
                <a:srgbClr val="ff66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Н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ибонуклеинова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2286000" y="533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457200" y="2286000"/>
            <a:ext cx="3962520" cy="30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 нуклеотида в ДН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876920" y="4419720"/>
            <a:ext cx="396216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 нуклеотида в РН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3924360" y="4869000"/>
            <a:ext cx="1562040" cy="1760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денин (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анин (Г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итозин (Ц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рацил (У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5867280" y="5181480"/>
            <a:ext cx="1190880" cy="114300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7467480" y="5105520"/>
            <a:ext cx="137160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12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70866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0" y="2743200"/>
            <a:ext cx="1523880" cy="1838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денин (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анин (Г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итозин (Ц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Тимин (Т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2057400" y="2819520"/>
            <a:ext cx="1190520" cy="114300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езокси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3505320" y="2819520"/>
            <a:ext cx="137160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18"/>
          <p:cNvSpPr/>
          <p:nvPr/>
        </p:nvSpPr>
        <p:spPr>
          <a:xfrm>
            <a:off x="3200400" y="3276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5105520" y="2514600"/>
            <a:ext cx="19047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формацион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(матричная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НК (и-РНК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7315200" y="2590920"/>
            <a:ext cx="16765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ранспорт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НК (т-РНК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6095880" y="3733920"/>
            <a:ext cx="304812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босомная РНК (р-РН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22"/>
          <p:cNvSpPr/>
          <p:nvPr/>
        </p:nvSpPr>
        <p:spPr>
          <a:xfrm flipH="1">
            <a:off x="6324480" y="198108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23"/>
          <p:cNvSpPr/>
          <p:nvPr/>
        </p:nvSpPr>
        <p:spPr>
          <a:xfrm>
            <a:off x="7162920" y="20574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24"/>
          <p:cNvSpPr/>
          <p:nvPr/>
        </p:nvSpPr>
        <p:spPr>
          <a:xfrm>
            <a:off x="7924680" y="205740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25"/>
          <p:cNvSpPr/>
          <p:nvPr/>
        </p:nvSpPr>
        <p:spPr>
          <a:xfrm>
            <a:off x="4267080" y="533520"/>
            <a:ext cx="1600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ель Д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853 г. – создание модели Д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rcRect l="31190" t="35901" r="35764" b="33706"/>
          <a:stretch/>
        </p:blipFill>
        <p:spPr>
          <a:xfrm>
            <a:off x="611280" y="2781360"/>
            <a:ext cx="4464000" cy="3240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2"/>
          <a:srcRect l="53239" t="25781" r="21075" b="18526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3CA0-45C5-4F58-B88D-17686DB5A8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0300207"/>
          <p:cNvPicPr/>
          <p:nvPr/>
        </p:nvPicPr>
        <p:blipFill>
          <a:blip r:embed="rId1"/>
          <a:stretch/>
        </p:blipFill>
        <p:spPr>
          <a:xfrm>
            <a:off x="0" y="620640"/>
            <a:ext cx="2987640" cy="2514600"/>
          </a:xfrm>
          <a:prstGeom prst="rect">
            <a:avLst/>
          </a:prstGeom>
          <a:ln w="0">
            <a:noFill/>
          </a:ln>
        </p:spPr>
      </p:pic>
      <p:sp>
        <p:nvSpPr>
          <p:cNvPr id="261" name="Oval 7"/>
          <p:cNvSpPr/>
          <p:nvPr/>
        </p:nvSpPr>
        <p:spPr>
          <a:xfrm>
            <a:off x="1979640" y="0"/>
            <a:ext cx="5327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СТРУКТУРЫ  ДНК И РН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359080" cy="2853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0"/>
          <p:cNvSpPr/>
          <p:nvPr/>
        </p:nvSpPr>
        <p:spPr>
          <a:xfrm>
            <a:off x="1094400" y="2602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18" descr=""/>
          <p:cNvPicPr/>
          <p:nvPr/>
        </p:nvPicPr>
        <p:blipFill>
          <a:blip r:embed="rId3"/>
          <a:stretch/>
        </p:blipFill>
        <p:spPr>
          <a:xfrm>
            <a:off x="3419640" y="836640"/>
            <a:ext cx="5499000" cy="5450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0300210"/>
          <p:cNvPicPr/>
          <p:nvPr/>
        </p:nvPicPr>
        <p:blipFill>
          <a:blip r:embed="rId4"/>
          <a:stretch/>
        </p:blipFill>
        <p:spPr>
          <a:xfrm>
            <a:off x="6443640" y="3500280"/>
            <a:ext cx="2448000" cy="1982880"/>
          </a:xfrm>
          <a:prstGeom prst="rect">
            <a:avLst/>
          </a:prstGeom>
          <a:ln w="0">
            <a:noFill/>
          </a:ln>
        </p:spPr>
      </p:pic>
      <p:sp>
        <p:nvSpPr>
          <p:cNvPr id="266" name="Line 20"/>
          <p:cNvSpPr/>
          <p:nvPr/>
        </p:nvSpPr>
        <p:spPr>
          <a:xfrm flipH="1">
            <a:off x="6084360" y="436572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пространственная взаимодополняемость молекул или их частей, приводящая к образованию водородных связ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плиментарные структуры подходят друг к другу как «ключ с замком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2556000" y="486900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(А+Т)+(Г+Ц)=10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9209-9733-4D2A-8316-2684A52C5A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3" descr="F:\..\Physicon\biologyege_local\content\chapter3\section\paragraph2\images\0300209.jpg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Строение хромосомы"/>
          <p:cNvPicPr/>
          <p:nvPr/>
        </p:nvPicPr>
        <p:blipFill>
          <a:blip r:embed="rId2"/>
          <a:stretch/>
        </p:blipFill>
        <p:spPr>
          <a:xfrm>
            <a:off x="6019920" y="3276720"/>
            <a:ext cx="2847960" cy="35812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250920" y="0"/>
            <a:ext cx="4800600" cy="98100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ОСТАВЕ ХРОМОС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5148360" y="620640"/>
            <a:ext cx="863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4859280" y="765000"/>
            <a:ext cx="1297080" cy="251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49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753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6" descr=""/>
          <p:cNvPicPr/>
          <p:nvPr/>
        </p:nvPicPr>
        <p:blipFill>
          <a:blip r:embed="rId1"/>
          <a:srcRect l="9185" t="3829" r="50449" b="53984"/>
          <a:stretch/>
        </p:blipFill>
        <p:spPr>
          <a:xfrm>
            <a:off x="324000" y="119160"/>
            <a:ext cx="8420040" cy="6478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оединение нуклеотид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5:30:17Z</dcterms:created>
  <dc:creator>Петрович</dc:creator>
  <dc:description/>
  <dc:language>en-US</dc:language>
  <cp:lastModifiedBy>Admin</cp:lastModifiedBy>
  <dcterms:modified xsi:type="dcterms:W3CDTF">2012-02-19T17:57:03Z</dcterms:modified>
  <cp:revision>13</cp:revision>
  <dc:subject/>
  <dc:title>Нуклеиновые кисл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